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867-7398-419B-9867-35C0DF9F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9D8-699F-4C1C-AEAE-9A29E92C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E2D-E49E-4BB4-B177-38D2CE0A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6C4-D63C-421C-80F2-80964639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8A7-A7BF-44E5-90A6-825763A4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EBD-CDEC-42E6-961B-B0A1DE57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0D3-21B3-429B-81C2-13EFA6C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958-F242-442B-B1D4-9AC7A48F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35F-EA17-4754-A5E1-BB2DC072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E0A-F399-4B02-85E0-79C7C57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A50-F731-4297-BF34-594CCAC3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75D-9798-4C8C-93E5-144970B9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56E5-8F19-4E65-B168-D0479F845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Me llamo _____________     Clase 6nh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La fecha es el 8 de abril del 201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repasamos para el examen de maña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2286000"/>
            <a:ext cx="8991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s-ES" sz="2800" spc="-1" strike="noStrike">
                <a:solidFill>
                  <a:srgbClr val="00b050"/>
                </a:solidFill>
                <a:latin typeface="Arial"/>
              </a:rPr>
              <a:t>I-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py &amp; answer in full Spanish sent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uantos jugadores hay en el equipo de futbol? (o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uántos tiempos hay en un partido de futbol? (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ién guarda la portería? (el port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¿Cuándo mete un gol el jugador? (cuando el balón entra en la porter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¿Qué marca un jugador cuando el balón entra en la portería? (un ta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En el estadio, ¿Qué indica el tanto? (el tablero indic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¿Cuándo queda empatado el tanto? (cuando los dos equipos tienen el mismo ta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</a:rPr>
              <a:t>II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baloncesto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 el baloncesto un deporte de equipo o un deporte individ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Hay cinco u once jugadores en el equipo de balonc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rante un partido de baloncesto, ¿los jugadores driblan con el balón o lanzan el balón con el p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¿El jugador tira el balón en el cesto o en la porte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¿Marca un tanto cuando dribla o cuando enc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¿El encestado (canasto) vale dos puntos o s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éisb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ose the correct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uegan al béisbol en ____de béis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un cam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 una canch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un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ícher ____ la pel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lanz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enc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c. ba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eceptor atrapa la pelota en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una re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un ces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c. un gu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jugador _____ de una base 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ti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devuelv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c. co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béisbol el jugador ____ robar una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pue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tiene qu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un partido de béisbol  hay _____ ent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d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 nuev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c.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579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IV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e with the correct forms of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jug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resar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Be sure to use the correct pronoun with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re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con muchos equipos porque ____ interes____ los depo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no ________ con el equipo porque no ____ interes____ el de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no ________ baloncesto porque no _____ interes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DUE WEDNESDAY, APRIL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para el EXAMEN del Capitulo 1 el PROXIMO L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book: p. 2-29; p.34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fu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, O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aloncesto,basque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deportes en el mundo hisp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pa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na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3:29:36Z</dcterms:created>
  <dc:creator>Helen Zumaeta</dc:creator>
  <dc:description/>
  <dc:language>en-US</dc:language>
  <cp:lastModifiedBy>Helen Zumaeta</cp:lastModifiedBy>
  <cp:lastPrinted>2013-03-14T12:30:52Z</cp:lastPrinted>
  <dcterms:modified xsi:type="dcterms:W3CDTF">2013-03-18T18:22:35Z</dcterms:modified>
  <cp:revision>20</cp:revision>
  <dc:subject/>
  <dc:title>Me llamo _______  Clase 7 IM La fecha es el 11 de marzo del 2011</dc:title>
</cp:coreProperties>
</file>